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037-9807-4DB6-80F2-4CA019C1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1CA-FE50-47B7-B190-092EDA2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2B-9253-4DA8-8F4C-A726113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8D7-6209-4E1A-A18E-A8753594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64D-60D1-4573-A6FB-AD548188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749-A59B-4204-BCC7-DA6DDDAA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961-FAE1-4CF9-A23F-9978DA4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466-9659-4441-A867-96AB6A6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E541-B6ED-453F-B432-98091AA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FAE-309F-4388-A7C3-FC071948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A754-4E0F-4EB6-B15B-E0EF4D5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3B1-BDD3-4185-8F13-C818AD55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C08-BA26-40F6-8C29-F56FE8C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5E40-C4A0-4D8E-A4DF-2016BAC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55D-0764-437A-9357-32E3C5C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A55C-818C-4AD2-AF6A-7034D376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986-CC22-497B-84F0-8307397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F06-4078-4291-BB93-E0A5BE3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E2E-E62E-4006-833A-75D63DE4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649-5F83-4497-88A2-525C7268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374-8E15-4593-9465-B9EE410C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3B8-E18A-466C-945A-044280A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95E-DE98-4217-A0B4-3DED9F8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D90-EF19-4F37-9182-5EC92AE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FFA-D66F-4B79-9B7C-574423765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8FB-4E53-487D-AD6D-F406DACA6E37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Me llamo __________          Clase 801 La fecha es el 10 de junio del 2016</a:t>
            </a:r>
            <a:endParaRPr b="0" lang="en-US" sz="36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</a:rPr>
              <a:t>Propósito # 86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Tahoma"/>
                <a:ea typeface="Tahoma"/>
              </a:rPr>
              <a:t>L.O: to review the verbs “saber” and “conocer”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In the following sentences, write the correct form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Yo __________ Méxic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Tú __________ al nuevo alumn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Ella _________ muchos país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Nosotros ___________ a los profeso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Ustedes __________ Europa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WORKBOOK: completa p. 9.7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0" name="Picture 12" descr="bd05584_"/>
          <p:cNvPicPr/>
          <p:nvPr/>
        </p:nvPicPr>
        <p:blipFill>
          <a:blip r:embed="rId1"/>
          <a:stretch/>
        </p:blipFill>
        <p:spPr>
          <a:xfrm>
            <a:off x="7086600" y="3276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PE07015_"/>
          <p:cNvPicPr/>
          <p:nvPr/>
        </p:nvPicPr>
        <p:blipFill>
          <a:blip r:embed="rId2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3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5" name="Text Box 353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é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número de teléfono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ab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jugar al fútbol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6" name="Picture 4" descr="PE07015_"/>
          <p:cNvPicPr/>
          <p:nvPr/>
        </p:nvPicPr>
        <p:blipFill>
          <a:blip r:embed="rId1"/>
          <a:stretch/>
        </p:blipFill>
        <p:spPr>
          <a:xfrm>
            <a:off x="6400800" y="5335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4000" y="1752480"/>
            <a:ext cx="955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zco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al Sr. Ruiz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c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parque 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de diverciones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1" name="Picture 4" descr="PE07015_"/>
          <p:cNvPicPr/>
          <p:nvPr/>
        </p:nvPicPr>
        <p:blipFill>
          <a:blip r:embed="rId1"/>
          <a:stretch/>
        </p:blipFill>
        <p:spPr>
          <a:xfrm>
            <a:off x="6705720" y="5335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55480" y="1447920"/>
            <a:ext cx="75978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 know how to play card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Paco knows the Fernandez family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a knows the addres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ina knows the city very well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y friends know how to ride a bike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uisa knows the information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4" name="Picture 7" descr="j0079190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6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Completa p. 9.8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6-06-10T17:14:36Z</dcterms:modified>
  <cp:revision>49</cp:revision>
  <dc:subject/>
  <dc:title>PowerPoint Presentation</dc:title>
</cp:coreProperties>
</file>